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25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33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DB8-23A4-49FF-8565-39CA20ED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16C-5A90-4581-98E8-D0D4D47D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24B-CC54-43E4-906C-153B65C5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6E8-6813-485A-83F9-326EEE60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542-B691-4575-AC08-F675FC73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9F9B-85A4-46D2-BA4F-079B73A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A38-9336-4317-B3FD-D187ACD4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A56-6573-45FB-9FB6-F18E6E69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D49-186F-483B-BCFC-1D60F90A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912-75F4-49D3-A5C4-B9F82BD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216-0486-4AB1-8F76-2716C95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DA0-4D26-4B23-A69C-2D56C29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6CBC-EFEB-47CB-A958-BE06EC56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2400" cy="138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illzoo.com/pix/midcity32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bpriors.org/images/98Reunion/Tibdance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tonehenge.com/merlyn/Pictures/Farmhouse/99-04-16/Bill_doing_body_shots_2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96280" cy="876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308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5720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14360" y="0"/>
            <a:ext cx="632484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In the Dog Hous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54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Not in the Dog Hous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908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152280" y="4495680"/>
            <a:ext cx="94464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02520" y="4419720"/>
            <a:ext cx="10414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8153280" y="1925640"/>
            <a:ext cx="1066680" cy="2494080"/>
            <a:chOff x="8153280" y="1925640"/>
            <a:chExt cx="1066680" cy="249408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8173800" y="2581560"/>
              <a:ext cx="1046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8153280" y="1925640"/>
              <a:ext cx="1066680" cy="75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8142120" y="0"/>
            <a:ext cx="1263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I (Crystal Ball)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d on the traffic patterns observed in Manhattan on a daily basis, travel time between bars is assumed to be random, yet normally distributed with MIN of 5 minutes and MAX of 30 minu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ars of New York differ in service, class, and popularity.  As such, queuing times at each pub differ.  Each of the possible establishments to be visited have been assigned a different queuing time distribu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Taxi Travel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209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15m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 Dev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03884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5 minute minimum and 30 minute maximum are calculated within the model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Bar Queu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 = 0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038480"/>
            <a:ext cx="2438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41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57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057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676520"/>
            <a:ext cx="2438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0574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5756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4438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438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1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30280" cy="1542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330280" cy="154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828800" y="4743360"/>
            <a:ext cx="2330280" cy="154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952880" y="4743360"/>
            <a:ext cx="2330640" cy="1543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4438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liest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3520" y="2370240"/>
            <a:ext cx="2286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bar selections made in Model I, Model II will run a Monte Carlo simulation in Crystal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1,000 distinct simulations, Crystal Ball will predict the likelihood that Prof. Juran will make the 10:30pm train departing from Grand Central S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determine whether Prof. Juran can visit the selected 6 bars and still stay out of the Dog Hous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630360" y="1735200"/>
            <a:ext cx="78832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 Craw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McSorley's (c)2002 www.NormsGallery.co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777240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19720" y="3657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Ch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96440" cy="510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819" t="0" r="13165" b="25019"/>
          <a:stretch/>
        </p:blipFill>
        <p:spPr>
          <a:xfrm>
            <a:off x="5029200" y="2590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Being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77800"/>
            <a:ext cx="7162560" cy="507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13323" t="0" r="13323" b="21051"/>
          <a:stretch/>
        </p:blipFill>
        <p:spPr>
          <a:xfrm>
            <a:off x="5105520" y="2133720"/>
            <a:ext cx="9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Having Som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5323" t="0" r="0" b="23808"/>
          <a:stretch/>
        </p:blipFill>
        <p:spPr>
          <a:xfrm>
            <a:off x="5334120" y="46483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pose of the model is to determine the probability of a select individual (e.g. Prof. Juran) making his/her train to Connecticut on a given Wednesday evening from Grand Central Station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vening begins at 6:00pm and the train departs at 10:30p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to embarking on the train the individual wishes to visit six establishments that serve alcoholic beverages and that conform to his/her p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Getting Row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05120"/>
            <a:ext cx="7619760" cy="423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0" t="0" r="0" b="23654"/>
          <a:stretch/>
        </p:blipFill>
        <p:spPr>
          <a:xfrm>
            <a:off x="1744560" y="2819520"/>
            <a:ext cx="1074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Line D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17354" b="19995"/>
          <a:stretch/>
        </p:blipFill>
        <p:spPr>
          <a:xfrm>
            <a:off x="5257800" y="2057400"/>
            <a:ext cx="851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Feeling No Pa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23654"/>
          <a:stretch/>
        </p:blipFill>
        <p:spPr>
          <a:xfrm>
            <a:off x="4419720" y="205740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e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-6362" t="0" r="0" b="28807"/>
          <a:stretch/>
        </p:blipFill>
        <p:spPr>
          <a:xfrm>
            <a:off x="4191120" y="2362320"/>
            <a:ext cx="1068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Juran Make the Tr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in the Dog Hous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86600" cy="4952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-5795" t="0" r="0" b="28575"/>
          <a:stretch/>
        </p:blipFill>
        <p:spPr>
          <a:xfrm>
            <a:off x="3657600" y="4038480"/>
            <a:ext cx="14479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: (Evolutionary Solver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52480"/>
          <a:ext cx="8153280" cy="483876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Be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nde, Brown or 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vel of desired drunk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S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Me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Wobbly (“Beer Goggle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Pass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xpense per beverag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through $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andy” Rat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hrough 10 (10 being…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Qui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Ro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Heavy 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Don’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elected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2514600" y="2743200"/>
            <a:ext cx="4800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ample of Ba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828800" y="1295280"/>
            <a:ext cx="5562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ximize a particular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his case, drunken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nary Integers determining the inclusion or exclusion of each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ars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unkenness achieved &gt;= minimum required (Happy (3)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rice per beer &lt;= $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“Eye Candy” Rating &gt;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tunes (not constrained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143000" y="13716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3276720" y="26668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9:42:00Z</dcterms:created>
  <dc:creator>Stern School</dc:creator>
  <dc:description/>
  <dc:language>en-US</dc:language>
  <cp:lastModifiedBy>Stern School</cp:lastModifiedBy>
  <dcterms:modified xsi:type="dcterms:W3CDTF">2002-12-04T19:36:10Z</dcterms:modified>
  <cp:revision>24</cp:revision>
  <dc:subject/>
  <dc:title>To Be (in the doghouse) or  Not To Be (in the doghouse)</dc:title>
</cp:coreProperties>
</file>